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0D427E-D264-47BA-A541-F83A9022F13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C4E4FA-93AE-4BF8-B7DB-99F20B60061C}" type="slidenum">
              <a:rPr b="0" lang="it-IT" sz="13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9605E8-4DE1-4EE1-93C6-28FECA12B34B}" type="slidenum">
              <a:rPr b="0" lang="it-IT" sz="13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85F8EC-D640-492F-9CD0-4A8EAD2900C0}" type="slidenum">
              <a:rPr b="0" lang="it-IT" sz="13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38240" y="801720"/>
            <a:ext cx="5024520" cy="3770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089A56-88A7-46A3-8845-721964873E52}" type="slidenum">
              <a:rPr b="0" lang="it-IT" sz="13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38240" y="801720"/>
            <a:ext cx="5024520" cy="3770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7CA-0CC4-476D-8968-569C60D5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9EA-AFA1-4EBC-9412-3C2E4CB7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F74-F26A-42BC-A662-0AF209A2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715-338C-48E5-BB2F-68CFC791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48B-2EF1-4472-8B47-86059760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29D0-1CDD-42E6-9208-F9C1DB3E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C4F9-5E6D-44A7-BEF9-CED15C6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D52-38FA-48AA-B34B-DD8CC65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1B2-BFD4-4E74-8E30-728EB9E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BE1-BFC4-43CB-839A-290F237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D437-5F87-4CFD-91E2-45B2EED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2A5-26DC-4668-A0E4-8E89264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B48-9DED-4EA0-B96E-5D96791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1137-F12D-4A20-A421-437FC4A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DE03-E83F-4144-97A7-E6247BE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4A0-F82B-4B90-AFF6-27DBE715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0D3-AC3D-4A7E-84A2-1F50241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23D-EC51-4842-B850-D687B7B4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E05-F94F-4CA6-93D4-3847BEE4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ED7-6BCD-48CC-90A3-0407E339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FE6-9A4D-425C-8F4E-F0E8A4E4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6F3-4C55-49D1-96D6-7F14508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99F-0D8C-455C-9C3D-33595B6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9FF-F4FF-4C00-A86A-2F6C361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743C-A75B-4388-B006-E58FB62BC006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498A-1F9A-404A-AB02-8E3BB6C3411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35F4-3209-40DC-94A5-1AA25D9C8432}" type="datetime">
              <a:rPr b="0" lang="it-IT" sz="1000" spc="-1" strike="noStrike">
                <a:solidFill>
                  <a:srgbClr val="003399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Times New Roman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BF6E-74E7-4E67-9788-CFCF4BB055AE}" type="slidenum">
              <a:rPr b="0" lang="it-IT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package" Target="../embeddings/oleObject1.ppt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6886-2172-4EAB-9768-45050D3EAF0D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CB41-A4AF-4373-9B2B-017BF8B0C463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Picture 2" descr="26s_sfondo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576680" y="6296040"/>
            <a:ext cx="26622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cccff"/>
                </a:solidFill>
                <a:latin typeface="Trebuchet MS"/>
              </a:rPr>
              <a:t>Prague, 21 Aprile 2008</a:t>
            </a:r>
            <a:r>
              <a:rPr b="1" lang="it-IT" sz="1400" spc="-1" strike="noStrike">
                <a:solidFill>
                  <a:srgbClr val="cccc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70280" y="635940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71640" y="0"/>
            <a:ext cx="698508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e3f8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99"/>
                </a:solidFill>
                <a:latin typeface="Arial"/>
              </a:rPr>
              <a:t>I Fondi Strutturali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99"/>
                </a:solidFill>
                <a:latin typeface="Arial"/>
              </a:rPr>
              <a:t>nella programmazio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99"/>
                </a:solidFill>
                <a:latin typeface="Arial"/>
              </a:rPr>
              <a:t>2007-20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Times New Roman"/>
              </a:rPr>
              <a:t>Angela Sansonett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Times New Roman"/>
              </a:rPr>
              <a:t>asansonetti@luiss.i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CERSI - Luiss Guido Carli Univers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82600" y="3240"/>
            <a:ext cx="2765520" cy="685800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7" descr="logoluiss_facolta"/>
          <p:cNvPicPr/>
          <p:nvPr/>
        </p:nvPicPr>
        <p:blipFill>
          <a:blip r:embed="rId3"/>
          <a:stretch/>
        </p:blipFill>
        <p:spPr>
          <a:xfrm>
            <a:off x="279360" y="349200"/>
            <a:ext cx="2755800" cy="9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286000" y="1714680"/>
          <a:ext cx="4572000" cy="342900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17146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022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Stato di attuazione </a:t>
            </a:r>
            <a:br>
              <a:rPr sz="3600"/>
            </a:b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della programmazione 2000-2006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D6E-BF96-420A-B898-55535382E63A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D67-6AB6-4DF8-ABC9-40187156063C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322280" y="1895400"/>
            <a:ext cx="6791400" cy="4162680"/>
            <a:chOff x="1322280" y="1895400"/>
            <a:chExt cx="6791400" cy="4162680"/>
          </a:xfrm>
        </p:grpSpPr>
        <p:sp>
          <p:nvSpPr>
            <p:cNvPr id="152" name="AutoShape 3"/>
            <p:cNvSpPr/>
            <p:nvPr/>
          </p:nvSpPr>
          <p:spPr>
            <a:xfrm>
              <a:off x="1322280" y="1895400"/>
              <a:ext cx="6791400" cy="41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1382760" y="1954080"/>
              <a:ext cx="6659640" cy="404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1971720" y="2814480"/>
              <a:ext cx="5950080" cy="21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1971720" y="2814480"/>
              <a:ext cx="5950080" cy="2186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139840" y="3487680"/>
              <a:ext cx="252360" cy="151308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2739960" y="3581280"/>
              <a:ext cx="241200" cy="141948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3328920" y="3720960"/>
              <a:ext cx="252360" cy="127980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3930480" y="3220920"/>
              <a:ext cx="239760" cy="1779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519440" y="3535200"/>
              <a:ext cx="252720" cy="146556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5121360" y="3570120"/>
              <a:ext cx="239760" cy="14306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710320" y="3639960"/>
              <a:ext cx="252360" cy="136080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6310440" y="3430440"/>
              <a:ext cx="241200" cy="1570320"/>
            </a:xfrm>
            <a:prstGeom prst="rect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899400" y="3395520"/>
              <a:ext cx="252360" cy="1605240"/>
            </a:xfrm>
            <a:prstGeom prst="rect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7500960" y="2919240"/>
              <a:ext cx="239760" cy="2081520"/>
            </a:xfrm>
            <a:prstGeom prst="rect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>
              <a:off x="1971720" y="2814480"/>
              <a:ext cx="1440" cy="218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Line 19"/>
            <p:cNvSpPr/>
            <p:nvPr/>
          </p:nvSpPr>
          <p:spPr>
            <a:xfrm>
              <a:off x="1935000" y="5000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1935000" y="47782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>
              <a:off x="1935000" y="45576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Line 22"/>
            <p:cNvSpPr/>
            <p:nvPr/>
          </p:nvSpPr>
          <p:spPr>
            <a:xfrm>
              <a:off x="1935000" y="4348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Line 23"/>
            <p:cNvSpPr/>
            <p:nvPr/>
          </p:nvSpPr>
          <p:spPr>
            <a:xfrm>
              <a:off x="1935000" y="41274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Line 24"/>
            <p:cNvSpPr/>
            <p:nvPr/>
          </p:nvSpPr>
          <p:spPr>
            <a:xfrm>
              <a:off x="1935000" y="3906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1935000" y="36860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935000" y="3465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1935000" y="32558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1935000" y="3035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1935000" y="2814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Line 30"/>
            <p:cNvSpPr/>
            <p:nvPr/>
          </p:nvSpPr>
          <p:spPr>
            <a:xfrm>
              <a:off x="1971720" y="5000760"/>
              <a:ext cx="5950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Line 31"/>
            <p:cNvSpPr/>
            <p:nvPr/>
          </p:nvSpPr>
          <p:spPr>
            <a:xfrm flipV="1">
              <a:off x="197172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Line 32"/>
            <p:cNvSpPr/>
            <p:nvPr/>
          </p:nvSpPr>
          <p:spPr>
            <a:xfrm flipV="1">
              <a:off x="257184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Line 33"/>
            <p:cNvSpPr/>
            <p:nvPr/>
          </p:nvSpPr>
          <p:spPr>
            <a:xfrm flipV="1">
              <a:off x="316080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 flipV="1">
              <a:off x="376236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Line 35"/>
            <p:cNvSpPr/>
            <p:nvPr/>
          </p:nvSpPr>
          <p:spPr>
            <a:xfrm flipV="1">
              <a:off x="435132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Line 36"/>
            <p:cNvSpPr/>
            <p:nvPr/>
          </p:nvSpPr>
          <p:spPr>
            <a:xfrm flipV="1">
              <a:off x="4952880" y="50007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Line 37"/>
            <p:cNvSpPr/>
            <p:nvPr/>
          </p:nvSpPr>
          <p:spPr>
            <a:xfrm flipV="1">
              <a:off x="5541840" y="50007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Line 38"/>
            <p:cNvSpPr/>
            <p:nvPr/>
          </p:nvSpPr>
          <p:spPr>
            <a:xfrm flipV="1">
              <a:off x="6141960" y="50007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Line 39"/>
            <p:cNvSpPr/>
            <p:nvPr/>
          </p:nvSpPr>
          <p:spPr>
            <a:xfrm flipV="1">
              <a:off x="6730920" y="50007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Line 40"/>
            <p:cNvSpPr/>
            <p:nvPr/>
          </p:nvSpPr>
          <p:spPr>
            <a:xfrm flipV="1">
              <a:off x="733284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Line 41"/>
            <p:cNvSpPr/>
            <p:nvPr/>
          </p:nvSpPr>
          <p:spPr>
            <a:xfrm flipV="1">
              <a:off x="7921800" y="50007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Freeform 42"/>
            <p:cNvSpPr/>
            <p:nvPr/>
          </p:nvSpPr>
          <p:spPr>
            <a:xfrm>
              <a:off x="2271600" y="3616200"/>
              <a:ext cx="5349960" cy="180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Freeform 43"/>
            <p:cNvSpPr/>
            <p:nvPr/>
          </p:nvSpPr>
          <p:spPr>
            <a:xfrm>
              <a:off x="2271600" y="3127320"/>
              <a:ext cx="5349960" cy="1800"/>
            </a:xfrm>
            <a:prstGeom prst="pie">
              <a:avLst/>
            </a:pr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223524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Line 45"/>
            <p:cNvSpPr/>
            <p:nvPr/>
          </p:nvSpPr>
          <p:spPr>
            <a:xfrm flipH="1" flipV="1">
              <a:off x="224784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Line 46"/>
            <p:cNvSpPr/>
            <p:nvPr/>
          </p:nvSpPr>
          <p:spPr>
            <a:xfrm>
              <a:off x="227160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H="1">
              <a:off x="224784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Line 48"/>
            <p:cNvSpPr/>
            <p:nvPr/>
          </p:nvSpPr>
          <p:spPr>
            <a:xfrm flipV="1">
              <a:off x="227160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49"/>
            <p:cNvSpPr/>
            <p:nvPr/>
          </p:nvSpPr>
          <p:spPr>
            <a:xfrm>
              <a:off x="282420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Line 50"/>
            <p:cNvSpPr/>
            <p:nvPr/>
          </p:nvSpPr>
          <p:spPr>
            <a:xfrm flipH="1" flipV="1">
              <a:off x="283680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Line 51"/>
            <p:cNvSpPr/>
            <p:nvPr/>
          </p:nvSpPr>
          <p:spPr>
            <a:xfrm>
              <a:off x="286056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Line 52"/>
            <p:cNvSpPr/>
            <p:nvPr/>
          </p:nvSpPr>
          <p:spPr>
            <a:xfrm flipH="1">
              <a:off x="283680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Line 53"/>
            <p:cNvSpPr/>
            <p:nvPr/>
          </p:nvSpPr>
          <p:spPr>
            <a:xfrm flipV="1">
              <a:off x="286056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54"/>
            <p:cNvSpPr/>
            <p:nvPr/>
          </p:nvSpPr>
          <p:spPr>
            <a:xfrm>
              <a:off x="342576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Line 55"/>
            <p:cNvSpPr/>
            <p:nvPr/>
          </p:nvSpPr>
          <p:spPr>
            <a:xfrm flipH="1" flipV="1">
              <a:off x="3438000" y="359244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4" name="Line 56"/>
            <p:cNvSpPr/>
            <p:nvPr/>
          </p:nvSpPr>
          <p:spPr>
            <a:xfrm>
              <a:off x="346248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5" name="Line 57"/>
            <p:cNvSpPr/>
            <p:nvPr/>
          </p:nvSpPr>
          <p:spPr>
            <a:xfrm flipH="1">
              <a:off x="3438000" y="361620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 flipV="1">
              <a:off x="346248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7" name="Rectangle 59"/>
            <p:cNvSpPr/>
            <p:nvPr/>
          </p:nvSpPr>
          <p:spPr>
            <a:xfrm>
              <a:off x="401472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8" name="Line 60"/>
            <p:cNvSpPr/>
            <p:nvPr/>
          </p:nvSpPr>
          <p:spPr>
            <a:xfrm flipH="1" flipV="1">
              <a:off x="4026960" y="359244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9" name="Line 61"/>
            <p:cNvSpPr/>
            <p:nvPr/>
          </p:nvSpPr>
          <p:spPr>
            <a:xfrm>
              <a:off x="405144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0" name="Line 62"/>
            <p:cNvSpPr/>
            <p:nvPr/>
          </p:nvSpPr>
          <p:spPr>
            <a:xfrm flipH="1">
              <a:off x="4026960" y="361620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1" name="Line 63"/>
            <p:cNvSpPr/>
            <p:nvPr/>
          </p:nvSpPr>
          <p:spPr>
            <a:xfrm flipV="1">
              <a:off x="405144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2" name="Rectangle 64"/>
            <p:cNvSpPr/>
            <p:nvPr/>
          </p:nvSpPr>
          <p:spPr>
            <a:xfrm>
              <a:off x="4616280" y="3581280"/>
              <a:ext cx="9540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 flipV="1">
              <a:off x="462744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4" name="Line 66"/>
            <p:cNvSpPr/>
            <p:nvPr/>
          </p:nvSpPr>
          <p:spPr>
            <a:xfrm>
              <a:off x="4651200" y="361620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5" name="Line 67"/>
            <p:cNvSpPr/>
            <p:nvPr/>
          </p:nvSpPr>
          <p:spPr>
            <a:xfrm flipH="1">
              <a:off x="462744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Line 68"/>
            <p:cNvSpPr/>
            <p:nvPr/>
          </p:nvSpPr>
          <p:spPr>
            <a:xfrm flipV="1">
              <a:off x="4651200" y="3592440"/>
              <a:ext cx="241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Rectangle 69"/>
            <p:cNvSpPr/>
            <p:nvPr/>
          </p:nvSpPr>
          <p:spPr>
            <a:xfrm>
              <a:off x="5205240" y="3581280"/>
              <a:ext cx="9540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 flipH="1" flipV="1">
              <a:off x="521640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Line 71"/>
            <p:cNvSpPr/>
            <p:nvPr/>
          </p:nvSpPr>
          <p:spPr>
            <a:xfrm>
              <a:off x="5240160" y="3616200"/>
              <a:ext cx="255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Line 72"/>
            <p:cNvSpPr/>
            <p:nvPr/>
          </p:nvSpPr>
          <p:spPr>
            <a:xfrm flipH="1">
              <a:off x="521640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Line 73"/>
            <p:cNvSpPr/>
            <p:nvPr/>
          </p:nvSpPr>
          <p:spPr>
            <a:xfrm flipV="1">
              <a:off x="5240160" y="3592440"/>
              <a:ext cx="255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Rectangle 74"/>
            <p:cNvSpPr/>
            <p:nvPr/>
          </p:nvSpPr>
          <p:spPr>
            <a:xfrm>
              <a:off x="580536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Line 75"/>
            <p:cNvSpPr/>
            <p:nvPr/>
          </p:nvSpPr>
          <p:spPr>
            <a:xfrm flipH="1" flipV="1">
              <a:off x="581832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Line 76"/>
            <p:cNvSpPr/>
            <p:nvPr/>
          </p:nvSpPr>
          <p:spPr>
            <a:xfrm>
              <a:off x="584208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Line 77"/>
            <p:cNvSpPr/>
            <p:nvPr/>
          </p:nvSpPr>
          <p:spPr>
            <a:xfrm flipH="1">
              <a:off x="581832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Line 78"/>
            <p:cNvSpPr/>
            <p:nvPr/>
          </p:nvSpPr>
          <p:spPr>
            <a:xfrm flipV="1">
              <a:off x="584208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Rectangle 79"/>
            <p:cNvSpPr/>
            <p:nvPr/>
          </p:nvSpPr>
          <p:spPr>
            <a:xfrm>
              <a:off x="6394320" y="3581280"/>
              <a:ext cx="968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Line 80"/>
            <p:cNvSpPr/>
            <p:nvPr/>
          </p:nvSpPr>
          <p:spPr>
            <a:xfrm flipH="1" flipV="1">
              <a:off x="640728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Line 81"/>
            <p:cNvSpPr/>
            <p:nvPr/>
          </p:nvSpPr>
          <p:spPr>
            <a:xfrm>
              <a:off x="643104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Line 82"/>
            <p:cNvSpPr/>
            <p:nvPr/>
          </p:nvSpPr>
          <p:spPr>
            <a:xfrm flipH="1">
              <a:off x="640728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Line 83"/>
            <p:cNvSpPr/>
            <p:nvPr/>
          </p:nvSpPr>
          <p:spPr>
            <a:xfrm flipV="1">
              <a:off x="643104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Rectangle 84"/>
            <p:cNvSpPr/>
            <p:nvPr/>
          </p:nvSpPr>
          <p:spPr>
            <a:xfrm>
              <a:off x="6996240" y="3581280"/>
              <a:ext cx="950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Line 85"/>
            <p:cNvSpPr/>
            <p:nvPr/>
          </p:nvSpPr>
          <p:spPr>
            <a:xfrm flipH="1" flipV="1">
              <a:off x="7007400" y="3592440"/>
              <a:ext cx="2520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Line 86"/>
            <p:cNvSpPr/>
            <p:nvPr/>
          </p:nvSpPr>
          <p:spPr>
            <a:xfrm>
              <a:off x="703260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Line 87"/>
            <p:cNvSpPr/>
            <p:nvPr/>
          </p:nvSpPr>
          <p:spPr>
            <a:xfrm flipH="1">
              <a:off x="7007400" y="3616200"/>
              <a:ext cx="2520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Line 88"/>
            <p:cNvSpPr/>
            <p:nvPr/>
          </p:nvSpPr>
          <p:spPr>
            <a:xfrm flipV="1">
              <a:off x="703260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Rectangle 89"/>
            <p:cNvSpPr/>
            <p:nvPr/>
          </p:nvSpPr>
          <p:spPr>
            <a:xfrm>
              <a:off x="7585200" y="3581280"/>
              <a:ext cx="95040" cy="93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Line 90"/>
            <p:cNvSpPr/>
            <p:nvPr/>
          </p:nvSpPr>
          <p:spPr>
            <a:xfrm flipH="1" flipV="1">
              <a:off x="7596360" y="3592440"/>
              <a:ext cx="2520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Line 91"/>
            <p:cNvSpPr/>
            <p:nvPr/>
          </p:nvSpPr>
          <p:spPr>
            <a:xfrm>
              <a:off x="7621560" y="361620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Line 92"/>
            <p:cNvSpPr/>
            <p:nvPr/>
          </p:nvSpPr>
          <p:spPr>
            <a:xfrm flipH="1">
              <a:off x="7596360" y="3616200"/>
              <a:ext cx="2520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Line 93"/>
            <p:cNvSpPr/>
            <p:nvPr/>
          </p:nvSpPr>
          <p:spPr>
            <a:xfrm flipV="1">
              <a:off x="7621560" y="3592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Rectangle 94"/>
            <p:cNvSpPr/>
            <p:nvPr/>
          </p:nvSpPr>
          <p:spPr>
            <a:xfrm>
              <a:off x="223524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Line 95"/>
            <p:cNvSpPr/>
            <p:nvPr/>
          </p:nvSpPr>
          <p:spPr>
            <a:xfrm flipH="1" flipV="1">
              <a:off x="224784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Line 96"/>
            <p:cNvSpPr/>
            <p:nvPr/>
          </p:nvSpPr>
          <p:spPr>
            <a:xfrm>
              <a:off x="227160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Line 97"/>
            <p:cNvSpPr/>
            <p:nvPr/>
          </p:nvSpPr>
          <p:spPr>
            <a:xfrm flipH="1">
              <a:off x="224784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 flipV="1">
              <a:off x="227160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282420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Line 100"/>
            <p:cNvSpPr/>
            <p:nvPr/>
          </p:nvSpPr>
          <p:spPr>
            <a:xfrm flipH="1" flipV="1">
              <a:off x="283680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Line 101"/>
            <p:cNvSpPr/>
            <p:nvPr/>
          </p:nvSpPr>
          <p:spPr>
            <a:xfrm>
              <a:off x="286056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Line 102"/>
            <p:cNvSpPr/>
            <p:nvPr/>
          </p:nvSpPr>
          <p:spPr>
            <a:xfrm flipH="1">
              <a:off x="283680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1" name="Line 103"/>
            <p:cNvSpPr/>
            <p:nvPr/>
          </p:nvSpPr>
          <p:spPr>
            <a:xfrm flipV="1">
              <a:off x="286056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342576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3" name="Line 105"/>
            <p:cNvSpPr/>
            <p:nvPr/>
          </p:nvSpPr>
          <p:spPr>
            <a:xfrm flipH="1" flipV="1">
              <a:off x="3438000" y="3105000"/>
              <a:ext cx="2412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Line 106"/>
            <p:cNvSpPr/>
            <p:nvPr/>
          </p:nvSpPr>
          <p:spPr>
            <a:xfrm>
              <a:off x="346248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5" name="Line 107"/>
            <p:cNvSpPr/>
            <p:nvPr/>
          </p:nvSpPr>
          <p:spPr>
            <a:xfrm flipH="1">
              <a:off x="3438000" y="3127320"/>
              <a:ext cx="2412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6" name="Line 108"/>
            <p:cNvSpPr/>
            <p:nvPr/>
          </p:nvSpPr>
          <p:spPr>
            <a:xfrm flipV="1">
              <a:off x="346248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01472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8" name="Line 110"/>
            <p:cNvSpPr/>
            <p:nvPr/>
          </p:nvSpPr>
          <p:spPr>
            <a:xfrm flipH="1" flipV="1">
              <a:off x="4026960" y="3105000"/>
              <a:ext cx="2412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9" name="Line 111"/>
            <p:cNvSpPr/>
            <p:nvPr/>
          </p:nvSpPr>
          <p:spPr>
            <a:xfrm>
              <a:off x="405144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0" name="Line 112"/>
            <p:cNvSpPr/>
            <p:nvPr/>
          </p:nvSpPr>
          <p:spPr>
            <a:xfrm flipH="1">
              <a:off x="4026960" y="3127320"/>
              <a:ext cx="2412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1" name="Line 113"/>
            <p:cNvSpPr/>
            <p:nvPr/>
          </p:nvSpPr>
          <p:spPr>
            <a:xfrm flipV="1">
              <a:off x="405144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616280" y="3092400"/>
              <a:ext cx="9540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Line 115"/>
            <p:cNvSpPr/>
            <p:nvPr/>
          </p:nvSpPr>
          <p:spPr>
            <a:xfrm flipH="1" flipV="1">
              <a:off x="462744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116"/>
            <p:cNvSpPr/>
            <p:nvPr/>
          </p:nvSpPr>
          <p:spPr>
            <a:xfrm>
              <a:off x="4651200" y="3127320"/>
              <a:ext cx="2412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117"/>
            <p:cNvSpPr/>
            <p:nvPr/>
          </p:nvSpPr>
          <p:spPr>
            <a:xfrm flipH="1">
              <a:off x="462744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118"/>
            <p:cNvSpPr/>
            <p:nvPr/>
          </p:nvSpPr>
          <p:spPr>
            <a:xfrm flipV="1">
              <a:off x="4651200" y="3105000"/>
              <a:ext cx="2412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5205240" y="3092400"/>
              <a:ext cx="9540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8" name="Line 120"/>
            <p:cNvSpPr/>
            <p:nvPr/>
          </p:nvSpPr>
          <p:spPr>
            <a:xfrm flipH="1" flipV="1">
              <a:off x="521640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9" name="Line 121"/>
            <p:cNvSpPr/>
            <p:nvPr/>
          </p:nvSpPr>
          <p:spPr>
            <a:xfrm>
              <a:off x="5240160" y="3127320"/>
              <a:ext cx="255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0" name="Line 122"/>
            <p:cNvSpPr/>
            <p:nvPr/>
          </p:nvSpPr>
          <p:spPr>
            <a:xfrm flipH="1">
              <a:off x="521640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1" name="Line 123"/>
            <p:cNvSpPr/>
            <p:nvPr/>
          </p:nvSpPr>
          <p:spPr>
            <a:xfrm flipV="1">
              <a:off x="5240160" y="3105000"/>
              <a:ext cx="255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580536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3" name="Line 125"/>
            <p:cNvSpPr/>
            <p:nvPr/>
          </p:nvSpPr>
          <p:spPr>
            <a:xfrm flipH="1" flipV="1">
              <a:off x="581832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4" name="Line 126"/>
            <p:cNvSpPr/>
            <p:nvPr/>
          </p:nvSpPr>
          <p:spPr>
            <a:xfrm>
              <a:off x="584208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5" name="Line 127"/>
            <p:cNvSpPr/>
            <p:nvPr/>
          </p:nvSpPr>
          <p:spPr>
            <a:xfrm flipH="1">
              <a:off x="581832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6" name="Line 128"/>
            <p:cNvSpPr/>
            <p:nvPr/>
          </p:nvSpPr>
          <p:spPr>
            <a:xfrm flipV="1">
              <a:off x="584208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6394320" y="3092400"/>
              <a:ext cx="968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 flipH="1" flipV="1">
              <a:off x="640728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643104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 flipH="1">
              <a:off x="640728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 flipV="1">
              <a:off x="643104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2" name="Rectangle 134"/>
            <p:cNvSpPr/>
            <p:nvPr/>
          </p:nvSpPr>
          <p:spPr>
            <a:xfrm>
              <a:off x="6996240" y="3092400"/>
              <a:ext cx="950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 flipH="1" flipV="1">
              <a:off x="7007400" y="3105000"/>
              <a:ext cx="2520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703260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 flipH="1">
              <a:off x="7007400" y="3127320"/>
              <a:ext cx="2520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 flipV="1">
              <a:off x="703260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Rectangle 139"/>
            <p:cNvSpPr/>
            <p:nvPr/>
          </p:nvSpPr>
          <p:spPr>
            <a:xfrm>
              <a:off x="7585200" y="3092400"/>
              <a:ext cx="95040" cy="93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 flipH="1" flipV="1">
              <a:off x="7596360" y="3105000"/>
              <a:ext cx="2520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7621560" y="3127320"/>
              <a:ext cx="2376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H="1">
              <a:off x="7596360" y="3127320"/>
              <a:ext cx="25200" cy="237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7621560" y="3105000"/>
              <a:ext cx="23760" cy="223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144"/>
            <p:cNvSpPr/>
            <p:nvPr/>
          </p:nvSpPr>
          <p:spPr>
            <a:xfrm>
              <a:off x="2319480" y="207000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145"/>
            <p:cNvSpPr/>
            <p:nvPr/>
          </p:nvSpPr>
          <p:spPr>
            <a:xfrm>
              <a:off x="2604240" y="2297160"/>
              <a:ext cx="459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80"/>
                  </a:solidFill>
                  <a:latin typeface="Arial"/>
                </a:rPr>
                <a:t>Livello di spesa ed attuazione della programmazione 2000-2006</a:t>
              </a:r>
              <a:endParaRPr b="0" lang="en-US" sz="12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146"/>
            <p:cNvSpPr/>
            <p:nvPr/>
          </p:nvSpPr>
          <p:spPr>
            <a:xfrm>
              <a:off x="1664640" y="4917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147"/>
            <p:cNvSpPr/>
            <p:nvPr/>
          </p:nvSpPr>
          <p:spPr>
            <a:xfrm>
              <a:off x="1664640" y="4697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Rectangle 148"/>
            <p:cNvSpPr/>
            <p:nvPr/>
          </p:nvSpPr>
          <p:spPr>
            <a:xfrm>
              <a:off x="1664640" y="4476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664640" y="426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1664640" y="4046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664640" y="3825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1664640" y="3605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1664640" y="3382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1664640" y="3174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1664640" y="2952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95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1598760" y="27320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 rot="18900000">
              <a:off x="1529640" y="530064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Basilicata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 rot="18900000">
              <a:off x="2179080" y="525780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Calabri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 rot="18900000">
              <a:off x="2701800" y="528156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Campani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 rot="18900000">
              <a:off x="3446640" y="523440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Molise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 rot="18900000">
              <a:off x="4073760" y="521640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Pugli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 rot="18900000">
              <a:off x="4475880" y="5297760"/>
              <a:ext cx="89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Sardegn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 rot="18900000">
              <a:off x="5280480" y="5213880"/>
              <a:ext cx="67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R Sicili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 rot="18900000">
              <a:off x="5759280" y="526896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N Ricerc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 rot="18900000">
              <a:off x="6242400" y="53200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N Sicurezza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 rot="18900000">
              <a:off x="6895800" y="5285160"/>
              <a:ext cx="8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PON Trasporti 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382760" y="1954080"/>
              <a:ext cx="6659640" cy="4044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4803480" y="284940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media PON = 92,9%</a:t>
              </a:r>
              <a:endParaRPr b="0" lang="en-US" sz="12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4808520" y="3360600"/>
              <a:ext cx="144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media POR = 81,7%</a:t>
              </a:r>
              <a:endParaRPr b="0" lang="en-US" sz="12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9484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Stato dell’arte </a:t>
            </a:r>
            <a:br>
              <a:rPr sz="3600"/>
            </a:b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della programmazione 2007-20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10720" y="1749240"/>
            <a:ext cx="766764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Nel corso dell’ultimo anno la programmazione 2007-2013 del Fondo per le Aree Sottoutilizzate (FAS) e` stata caratterizzata da una grande incertezza, relativa all’entità delle risorse disponibili ed alla loro destinazione che ha di fatto ritardato l`attuazione dei programmi operativi di livello nazionale e regionale (POR e PON) finanziati con i fondi strutturali europe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I continui tagli operati alle risorse FAS hanno reso incerto il quadro generale di utilizzo di tali risorse annullando i benefici della programmazione unitaria delle risorse nazionali ed europee prevista nell`ambito del Quadro Strategico Nazional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A1B-DCCF-4D93-8276-3E5D8CD87F37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D65-6890-4FD6-AC09-79C5F2DE9D9E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La rimodulazion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11080" y="1603080"/>
            <a:ext cx="7485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Per quanto riguarda i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programmi regionali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ed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fondi nazionali del Fondo per le aree sottoutilizzate (Fas)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, non vi e` ancora chiarezza sulla destinazione dei fondi alla realizzazione di infrastruttur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Solo 9 Programmi Attuativi Regionali (PAR) del Fas su 21 sono stati presentati al Cipe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e approvati, per un importo complessivo pari a 3.507 milioni di euro su un totale di 21.831 milioni di eur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1460-69C1-4BC1-A304-F3CDA9F42668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BB1-7C7A-47A1-A2E4-868DE637B964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227-462B-4B5A-BF02-6532823B71EB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Segnaposto dat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360-5EBF-406E-A150-371A053CBE76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Segnaposto piè di pagin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Dr.ssa Angela Sansonetti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Introduzio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676520"/>
            <a:ext cx="76676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La volontà di superare le forti disparità tra le Regioni d’Europa ha portato l’UE a varare, a partire dal 1975 dei meccanismi di sostegno basati su due elementi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Favorire il </a:t>
            </a: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processo d’integrazione economica europea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caratterizzato da uno sviluppo disegual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Garantire </a:t>
            </a: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una maggiore coesione economica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al fine di permettere una più stretta unione tra i popoli d’Europ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C0A2-0192-4EB4-923E-63AEB26131C6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Segnaposto dat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990-ACEB-44A8-B281-5E57E7A4982E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Segnaposto piè di pagin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Dr.ssa Angela Sansonetti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617040"/>
            <a:ext cx="7157880" cy="89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I fondi strutturali – Definizio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I fondi strutturali sono strumenti finanziari adottati dalla Commissione Europea allo scopo di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Promuovere e accelerare la coesione e lo sviluppo economico e sociale in tutte le  regioni d’Europ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Ridurre il divario tra gli Stati in ritardo di sviluppo e quelli più avanzati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245A-628B-4496-83AB-D38A95E10ACB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Segnaposto dat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2BEC-9923-4A81-9BE6-7F6C2C003395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Segnaposto piè di pagin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Dr.ssa Angela Sansonetti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Il Quadro strategico Naziona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881360"/>
            <a:ext cx="831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l QSN stabilisce in modo unitario gli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obiettivi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, le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priorità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, le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regole 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della politica regionale di sviluppo allo scopo di orientare la programmazione operativa in ambito nazionale e regionale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Nello specifico, il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QSN ITALIA 2007-2013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 è il documento programmatico economico finanziario con il quale l'Italia definisce obiettivi strategici ed operativi dei diversi programmi e la relativa ripartizione delle risorse finanziarie provenienti da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Politica di coesione comunitaria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FESR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Fondo per le aree sottoutilizzate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FAS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) destinato alle politiche regionali nelle aree del Mezzogiorno e del Centro-Nord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l QSN è il risultato di un confronto partenariale fra amministrazioni centrali e regionali, esponenti del partenariato istituzionale e di quello economico e sociale avviato il 3 febbraio 2005 con l’approvazione, da parte della Conferenza Unificata Stato-Regioni, delle </a:t>
            </a: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“Linee guida per l’elaborazione del Quadro Strategico Nazionale 2007-2013”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7843-2E4B-4CB4-8F7F-C7406926F93A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Segnaposto dat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AF1-5162-483E-BDB5-252B054580C6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Segnaposto piè di pagin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Dr.ssa Angela Sansonetti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L’integrazione di fonti finanziarie nel Quadro Strategico Nazional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4160" y="1807920"/>
            <a:ext cx="77263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La coerenza temporale e finanziaria delle fonti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comunitaria (FS) e nazionale (FAS) viene assicurata dall’ impegno assunto in via programmatica dallo Stato Italiano di omogeneizzare i periodi di programmazione nazionale e comuni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Il DPEF 2007-2011, successivamente formalizzato dal DDL Finanziaria 2007 (art. 105), ha infatti previsto la settenalizzazione dell’impegno di bilancio sul FAS e stabilito la sua entità in </a:t>
            </a: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circa 63 miliardi di eur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Le risorse disponibili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5E9-A3CF-4C94-AFC3-8F169B18D36B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EB7B-7328-440D-8A52-79D226025230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11080" y="1859040"/>
            <a:ext cx="7661520" cy="1201680"/>
          </a:xfrm>
          <a:prstGeom prst="rect">
            <a:avLst/>
          </a:prstGeom>
          <a:solidFill>
            <a:srgbClr val="081b78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ndi Strutturali comunitar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2,995 miliardi di eur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884160" y="3360960"/>
            <a:ext cx="7661520" cy="1191240"/>
          </a:xfrm>
          <a:prstGeom prst="rect">
            <a:avLst/>
          </a:prstGeom>
          <a:solidFill>
            <a:srgbClr val="081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ndo nazionale per le Aree Sottoutilizzate (FA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53,782 miliardi di eur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84160" y="4931280"/>
            <a:ext cx="7661520" cy="1191240"/>
          </a:xfrm>
          <a:prstGeom prst="rect">
            <a:avLst/>
          </a:prstGeom>
          <a:solidFill>
            <a:srgbClr val="081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finanziamento naz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4,331 miliardi di eur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457200" y="1371600"/>
          <a:ext cx="8686800" cy="44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86868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4"/>
          <p:cNvSpPr/>
          <p:nvPr/>
        </p:nvSpPr>
        <p:spPr>
          <a:xfrm>
            <a:off x="5335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Quadro finanziario della programmazione unitaria 2007-13 </a:t>
            </a:r>
            <a:r>
              <a:rPr b="0" i="1" lang="it-IT" sz="1200" spc="-1" strike="noStrike">
                <a:solidFill>
                  <a:srgbClr val="000099"/>
                </a:solidFill>
                <a:latin typeface="Arial"/>
                <a:ea typeface="Arial"/>
              </a:rPr>
              <a:t>(in milioni di €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884160" y="228600"/>
            <a:ext cx="82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Quadro  disponibilità finanziarie delle regioni a seguito della rimodulazio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1" name="Picture 491" descr=""/>
          <p:cNvPicPr/>
          <p:nvPr/>
        </p:nvPicPr>
        <p:blipFill>
          <a:blip r:embed="rId2"/>
          <a:stretch/>
        </p:blipFill>
        <p:spPr>
          <a:xfrm>
            <a:off x="0" y="1785960"/>
            <a:ext cx="85154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4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Le risorse FAS 2007-2013 Regioni convergenz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3D1-020D-47A8-9C9D-571204CBB91B}" type="datetime">
              <a:rPr b="0" lang="it-IT" sz="1000" spc="-1" strike="noStrike">
                <a:solidFill>
                  <a:srgbClr val="003399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195-0539-4141-AE0E-5710FFF15C29}" type="slidenum">
              <a:rPr b="0" lang="it-IT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Group 4" descr=""/>
          <p:cNvPicPr/>
          <p:nvPr/>
        </p:nvPicPr>
        <p:blipFill>
          <a:blip r:embed="rId2"/>
          <a:stretch/>
        </p:blipFill>
        <p:spPr>
          <a:xfrm>
            <a:off x="1206360" y="2000160"/>
            <a:ext cx="69375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_SFIDA</dc:creator>
  <dc:description/>
  <dc:language>en-US</dc:language>
  <cp:lastModifiedBy>Didattica</cp:lastModifiedBy>
  <dcterms:modified xsi:type="dcterms:W3CDTF">2009-06-10T15:23:37Z</dcterms:modified>
  <cp:revision>2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  <property fmtid="{D5CDD505-2E9C-101B-9397-08002B2CF9AE}" pid="4" name="_AdHocReviewCycleID">
    <vt:r8>2122705950</vt:r8>
  </property>
  <property fmtid="{D5CDD505-2E9C-101B-9397-08002B2CF9AE}" pid="5" name="_AuthorEmail">
    <vt:lpwstr>guida@cndcec.it</vt:lpwstr>
  </property>
  <property fmtid="{D5CDD505-2E9C-101B-9397-08002B2CF9AE}" pid="6" name="_AuthorEmailDisplayName">
    <vt:lpwstr>Guida Marianna</vt:lpwstr>
  </property>
  <property fmtid="{D5CDD505-2E9C-101B-9397-08002B2CF9AE}" pid="7" name="_EmailSubject">
    <vt:lpwstr>ATTI Convegno 10 giugno LUISS - 3/4</vt:lpwstr>
  </property>
</Properties>
</file>